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91B-BCE1-4380-A707-BA94C1C4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694-E3D9-4063-9A9A-637C85E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C2C-72B0-4319-9C0F-106EEA19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8FB-5A0A-4E9C-8DEF-5A9F2673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1114-2317-4841-98F5-D7227929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549-A243-4A1A-BE64-CF6CA72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461-CBC4-44D4-B9CB-325C288C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E37E-796E-4864-AA6F-5B56B5E8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BBB7-193B-4933-961D-3741C43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1622-9BC6-4810-AD90-F33E297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96C-F4B7-4849-B18F-55F7681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657-01A1-43B8-8C14-319EF42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C0B0-47C4-420A-A9BD-BEE3A20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C81B-4A0E-4427-BD79-7CE85BA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6B4A-0D62-4FCB-B69B-AB0FA30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A3C-82B7-4C69-9936-C96A412F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992-F108-44BC-A219-D3AB57C8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A91-785E-4027-9B71-19A4348E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9C4-1191-4C4A-AC00-CD1CB25D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478-CD3F-4C84-A910-AECA53AF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54-8112-4478-BFB7-5B173AF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BFB-B306-4FC9-9249-7B77706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E16-6E3A-464B-A81E-9EB127F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D41-BB1A-4866-BC12-610029B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BF1-0CD8-45A5-894D-E7542EDDC11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3680-4D15-43CE-A61B-6A00154496E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Experime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ooper Std Black"/>
              </a:rPr>
              <a:t>What is a hypothesis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46:55Z</dcterms:created>
  <dc:creator>PritchaJ</dc:creator>
  <dc:description/>
  <dc:language>en-US</dc:language>
  <cp:lastModifiedBy>PritchaJ</cp:lastModifiedBy>
  <dcterms:modified xsi:type="dcterms:W3CDTF">2011-05-24T15:50:31Z</dcterms:modified>
  <cp:revision>1</cp:revision>
  <dc:subject/>
  <dc:title>Slide 1</dc:title>
</cp:coreProperties>
</file>